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871-DCBF-4073-A895-F644C8F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8A6-48E0-4189-BBB3-C74A1C6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81B-F302-4C32-A6CF-758CD9A1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3E3-1338-4B42-A590-5F99E703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549-42D7-4022-A613-069FD726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47AE-C00D-48D9-9FA2-A3AE2482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2389-8B73-4286-9C34-9CA9AF38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E490-3EDD-4494-BAB0-1B33F27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24CE-BC17-4AA3-9E5C-7E18E1D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DD71-BE11-43D7-AADD-B7912B0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DC6F-EFF6-4707-988A-7D04DC6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0D6-9FE7-4CFF-AD29-5DE2D1B7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1948-08B1-4848-A4F5-14D79F2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712-03CD-495B-99DD-87AB5B95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A1F-A8E1-4585-806C-4D2D049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0327-6F22-449C-93C9-9B487F0C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D6A1-6971-4E87-AC5A-2761FD06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471-FBD5-45C0-B34D-15E5DD43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EB7-AB2A-44D9-9763-8271FB3F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099-BF4D-421C-A533-345818E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2D1-79CA-4128-A211-D0E0229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E2C-66C8-43AA-90D3-E0B08EE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F11-B3D9-49C3-98A9-96F6FB3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1D8-3E58-4144-9415-9AEB6AD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C71F-30D5-437C-BD1F-CB36C018A4D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5C0-DEB1-428E-9505-A167D700904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of District Propert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 Third Pa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ileen 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puty Direc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ss Permits/Other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yce Izum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 213.241.612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yce.izumi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 types of License/Lease Agree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use of District property by third par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ort term - use for 30 days or l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arking for birthday parties, dance recitals, theatrical performances, booster club or PTA fund raiser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ng term basis  - use for over 30 day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eyond the Bell programs, church services, sports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actions fall into two categor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ular rental r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ntal rates charged pursuant to a rental rate schedule approved by the Boar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st incurred” reques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aiver of regular rental fees (and often all costs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nefit” to the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ppropriate custodial hours being alloca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ct as Landlord/Licensor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ren Tandoc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213.241.613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ren.tandoc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the District to enter into agreements to lease property owned by third partie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assroom space for adult education or other District progra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maintains the lease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ct as Tenant/Licensee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nry McFarl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 213.241.612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nry.mcfarland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vic Center Per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 Civic Center Permit Off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lifornia Education Code and the LAUSD Board of Education require that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and every public school facility be made available as a civic center to members of the community and non-profit community organization for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ervised recreational activ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etings and public discuss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uring designated hours when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gular school activities are not disrupt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vic Center Permits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thy Friedma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 818.587.434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thryn.friedman@lausd.ne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3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Eileen Ma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uty Direc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US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33 South Beaudry Ave, 23rd Flo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os Angeles, CA 9001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el:  213.241.6124    Fax:  213.241.678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ileen.ma@lausd.n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n a monthly basis, District receives several hundred requests for the use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f its facilities (school sites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mary Types of Uses of District Property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ccess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cen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ivic Center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l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LA – District’s film coordinator vend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ports to 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ndles all requests for filming or filming related activ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k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ater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hotograp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requests must be handled through Film L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lming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lm LA, Inc.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201 West 5th Street, T-800</a:t>
            </a:r>
            <a:br>
              <a:rPr sz="2400"/>
            </a:b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Los Angeles, CA  90017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ontact:</a:t>
            </a:r>
            <a:br>
              <a:rPr sz="2400"/>
            </a:b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Patricia Edgar   tel: 213.977.8618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tricia_edgar@filmlainc.c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yce Izum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tel: 213.241.612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yce.izumi@lausd.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-managed by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Planning &amp; Design Depart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i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use of a school after hours by a non-District partner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overnmental agenc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rts organizat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ivate ent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ctors to be evaluated in a proposed joint us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ill the partner be contribut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pital improvements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grammatic contribution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ll use be cost neutral to the Distric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Ana Las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Tel: 213.241.589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ana.lasso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Permits/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by third parties or by the Distri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ous real estate transactions requiring an agreement to document the transaction and/or monitor compliance.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eighbor requests access onto the school to trim his trees or to fix an adjacent wal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requires access onto a neighbor’s property for school constru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49:34Z</dcterms:created>
  <dc:creator>joyce izumi</dc:creator>
  <dc:description/>
  <dc:language>en-US</dc:language>
  <cp:lastModifiedBy>joyce izumi</cp:lastModifiedBy>
  <dcterms:modified xsi:type="dcterms:W3CDTF">2009-04-16T19:37:42Z</dcterms:modified>
  <cp:revision>17</cp:revision>
  <dc:subject/>
  <dc:title>Use of District Property by Third Parties</dc:title>
</cp:coreProperties>
</file>